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13D-240B-4FB7-AE67-9CC3D501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654-F654-4BEE-ACEA-4C7673F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328-4D03-4B38-83D1-D7875220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B61-A34E-4D63-87B1-12CB5A0C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638-FA4B-4EA9-8F2C-F7F4F3C7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A7EA-C013-41F0-9896-74EF2AC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C67D-1479-4034-83FC-3FC6D32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DD9A-6DD5-4516-9910-DAAC69E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7FC0-E563-4176-941D-266AC53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0199-1C3B-43D4-A3C0-AE8B22E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8994-AF33-4B92-98DD-A9FEB6A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BF3-7B56-4675-ADD2-4B09E8D1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BE37-3359-47C6-A9F9-3CD445F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CD48-D595-42E1-A95E-46C632D4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EFD9-FC9B-45C3-A123-7E293279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900-E33C-4674-9C63-1138123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E123-82DB-4795-A5FA-D7CBA3BE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3BE-BFE1-4662-ADFD-3C7B0BB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4FA-6D08-4D6A-B33A-F1B81EC9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96B-25C7-4E8C-8EB3-E8774953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46F-EBED-4505-99A4-30AD68C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C27-7A10-4AC4-BE83-606D46F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8DD-173F-4B82-86F6-A56D214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341-48F0-40D6-935B-5EF5FEC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ED8F-681C-480E-92D9-B5619197D7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916-BE97-4E8B-A7FE-AD000845D2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9B09-3BD3-4C6B-BAAF-455FAD0003F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36D-C87A-43FA-8A2B-445E1C7DE6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3341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D72-CCEF-4648-8A92-DF620003428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2A6-DC3E-42A3-BD02-C81614E0403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CE2-BB2D-4997-AE34-E7EECA076F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&amp; Constraints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1 bit-cells use Low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-Vdd must be same as Core-V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Can’t use Multi-Vdd to increase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E25-6C16-4757-9E19-798EEA6531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4440" y="990720"/>
            <a:ext cx="8534520" cy="3336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-15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4156200"/>
            <a:ext cx="79246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solution: Reduce # cells on a bit-line   </a:t>
            </a:r>
            <a:r>
              <a:rPr b="1" lang="en-US" sz="21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8E3-B128-4619-81F3-B2CF1AB612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  (data-dependent to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DD0-8494-459A-BC2F-EC5B0080E6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is Bit-line leakage an issu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technology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, high 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pact o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threshol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ergy penalty due to higher required BL s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Temperature Compliant Mem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mem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968-3BD6-4AF2-8C60-5A371297F9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-line Leakage Cance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 leakage value during pre-ch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ject opposite current during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-&gt; I conversion inaccura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-charge to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33960" cy="2371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44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gawa et al,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4C7-7CDA-4D50-8176-0F42B3422C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54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F5E-BBE0-4715-8F64-C8B65EC8113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5-04T14:24:42Z</dcterms:modified>
  <cp:revision>62</cp:revision>
  <dc:subject/>
  <dc:title>Bit-Line Leakage Cancellation:  Design and Test Automation</dc:title>
</cp:coreProperties>
</file>